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Welcome participants.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A78935-5FC8-4F78-A192-15BDDFE513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C84764-E8B3-4F5D-BAAE-276B2E4CB5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86BE64-A36D-44FB-BF09-C35897D01A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3FCB9E-F6BF-495A-BE33-DDD6BC18236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A473C-B998-4811-BC96-5886B732305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653B73-1661-46F8-BDD7-7C936F3F26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D4DA26-2E54-4F81-8CCA-957F1E648C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2E5EBA-946B-4872-8BD8-847F534D0C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70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444484-31A9-43B6-B0BE-6D5C07080D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A58BB8-D0BE-40FF-A959-DEE1EF30EA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CCBE99-C05D-4C5C-8737-5DAB5E63E5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0AE17A-E72C-471C-A97C-F39E60B0D7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" descr=""/>
          <p:cNvPicPr/>
          <p:nvPr/>
        </p:nvPicPr>
        <p:blipFill>
          <a:blip r:embed="rId2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462440" y="624492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5EA1D-4BD4-4803-A171-232D01EC5A3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2" descr=""/>
          <p:cNvPicPr/>
          <p:nvPr/>
        </p:nvPicPr>
        <p:blipFill>
          <a:blip r:embed="rId3"/>
          <a:stretch/>
        </p:blipFill>
        <p:spPr>
          <a:xfrm>
            <a:off x="260280" y="5506920"/>
            <a:ext cx="1652760" cy="455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"/>
          <p:cNvSpPr/>
          <p:nvPr/>
        </p:nvSpPr>
        <p:spPr>
          <a:xfrm>
            <a:off x="0" y="0"/>
            <a:ext cx="9144000" cy="6535800"/>
          </a:xfrm>
          <a:prstGeom prst="rect">
            <a:avLst/>
          </a:prstGeom>
          <a:gradFill rotWithShape="0">
            <a:gsLst>
              <a:gs pos="0">
                <a:srgbClr val="d1d1f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55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46" name="Text Box 4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1F554-3F82-4EB2-A64C-F9C2A00698A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1600200"/>
            <a:ext cx="8076960" cy="23623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490d8"/>
                </a:solidFill>
                <a:latin typeface="Tahoma"/>
                <a:ea typeface="Tahoma"/>
              </a:rPr>
              <a:t>Math CAMPPP 2012</a:t>
            </a:r>
            <a:endParaRPr b="0" lang="en-US" sz="48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914040" y="3352320"/>
            <a:ext cx="7620120" cy="35053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42478"/>
                </a:solidFill>
                <a:latin typeface="Tahoma"/>
                <a:ea typeface="Tahoma"/>
              </a:rPr>
              <a:t>Different Ways of Thinking About F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8" descr=""/>
          <p:cNvPicPr/>
          <p:nvPr/>
        </p:nvPicPr>
        <p:blipFill>
          <a:blip r:embed="rId2"/>
          <a:stretch/>
        </p:blipFill>
        <p:spPr>
          <a:xfrm>
            <a:off x="152280" y="76320"/>
            <a:ext cx="2590920" cy="152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024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Learning Goal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19040" y="117432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will deepen our understanding of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he different meanings of f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how our own experiences may bias us in terms of the type of fractions we default to and/or the type of representations we sel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9E0EE-4CDD-4364-8845-7D1327C1787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54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34FF7-514E-4405-BC4F-B8AB9DF4ED9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Placemat Activity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80880" y="18284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ord your understanding of fractions (what you remember from school, contexts you use them, representations for…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cuss the information recorded by each person and consolidate it in the centre of the place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CEFE9-318D-4EF1-8EE4-DA82A8D4C85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"/>
          <p:cNvPicPr/>
          <p:nvPr/>
        </p:nvPicPr>
        <p:blipFill>
          <a:blip r:embed="rId1"/>
          <a:stretch/>
        </p:blipFill>
        <p:spPr>
          <a:xfrm>
            <a:off x="5943600" y="228600"/>
            <a:ext cx="1592280" cy="149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6" descr=""/>
          <p:cNvPicPr/>
          <p:nvPr/>
        </p:nvPicPr>
        <p:blipFill>
          <a:blip r:embed="rId1"/>
          <a:stretch/>
        </p:blipFill>
        <p:spPr>
          <a:xfrm>
            <a:off x="3809880" y="1703520"/>
            <a:ext cx="2743200" cy="2997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7" descr=""/>
          <p:cNvPicPr/>
          <p:nvPr/>
        </p:nvPicPr>
        <p:blipFill>
          <a:blip r:embed="rId2"/>
          <a:stretch/>
        </p:blipFill>
        <p:spPr>
          <a:xfrm>
            <a:off x="7315200" y="3994200"/>
            <a:ext cx="1438200" cy="15714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 txBox="1"/>
          <p:nvPr/>
        </p:nvSpPr>
        <p:spPr>
          <a:xfrm>
            <a:off x="380880" y="15933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a variety of manipulatives, identify a fraction and then represent it in as many ways as pos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ord each model on a sticky no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Representing Fraction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3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76C4D-8398-44E0-915C-3B96C4DDECD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Sort and Discus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304920" y="20570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t your sticky notes on the chart paper under each of the different meanings of f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cuss placement with others as you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5A287-09B2-47F2-951C-D3FE0C1E181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6" descr=""/>
          <p:cNvPicPr/>
          <p:nvPr/>
        </p:nvPicPr>
        <p:blipFill>
          <a:blip r:embed="rId1"/>
          <a:stretch/>
        </p:blipFill>
        <p:spPr>
          <a:xfrm>
            <a:off x="5638680" y="762120"/>
            <a:ext cx="2032200" cy="11430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7" descr=""/>
          <p:cNvPicPr/>
          <p:nvPr/>
        </p:nvPicPr>
        <p:blipFill>
          <a:blip r:embed="rId2"/>
          <a:stretch/>
        </p:blipFill>
        <p:spPr>
          <a:xfrm>
            <a:off x="3086280" y="4495680"/>
            <a:ext cx="3705120" cy="2076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Making Meaning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361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ganize into 7 group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group takes one sheet or faction mea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 with your group to organize and annotate to add mea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DBC75-A1FB-4AFA-85FA-4719222D1BA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>
            <a:off x="5181480" y="838080"/>
            <a:ext cx="3233880" cy="1811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Debrief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87440" y="12110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hat criteria did you use to group the sticky notes on your pag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hich ones were difficult to pla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hich ones did you chose to move to another page and wh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hat questions do you hav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How might this sort of activity relate to the mathematical proces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D5AB6-7124-4475-BE02-F4282DAEEED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2" descr=""/>
          <p:cNvPicPr/>
          <p:nvPr/>
        </p:nvPicPr>
        <p:blipFill>
          <a:blip r:embed="rId1"/>
          <a:stretch/>
        </p:blipFill>
        <p:spPr>
          <a:xfrm>
            <a:off x="7122960" y="533520"/>
            <a:ext cx="1314720" cy="7398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3" descr="C:\Documents and Settings\dblair\Local Settings\Temporary Internet Files\Content.IE5\NXCL9D97\MC900433934[1].PNG"/>
          <p:cNvPicPr/>
          <p:nvPr/>
        </p:nvPicPr>
        <p:blipFill>
          <a:blip r:embed="rId2"/>
          <a:stretch/>
        </p:blipFill>
        <p:spPr>
          <a:xfrm>
            <a:off x="5715000" y="5079960"/>
            <a:ext cx="1666800" cy="1666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SC</dc:creator>
  <dc:description/>
  <dc:language>en-US</dc:language>
  <cp:lastModifiedBy>Blair, Danielle</cp:lastModifiedBy>
  <dcterms:modified xsi:type="dcterms:W3CDTF">2012-07-13T21:36:07Z</dcterms:modified>
  <cp:revision>32</cp:revision>
  <dc:subject/>
  <dc:title>&lt;Title&gt;</dc:title>
</cp:coreProperties>
</file>